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dailydoub.wav" ContentType="audio/x-wav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3745-792A-4E20-AA6A-B2144369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9509-DC54-41C4-902C-E5C4DB1F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69BF-DE05-4612-9D4E-750F7852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6E15-CE65-4C4B-B70B-E1776CEC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2E7C-39BA-4176-852B-0737C5A0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F272-0BCA-456A-A6B5-727C73F3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18FB-90F9-4BFA-82A9-B6E47A5A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B2B3-22C0-4211-AD04-499DEB7E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87CD-C360-4C4C-85E0-A4CB396A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61A3-189A-48B3-A703-8648867A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32C1-F5D6-477B-83F0-E1DAF8A3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7C49-421E-4F83-94B0-15A3A641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46DA-074A-44A3-B2CA-4177C2F83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opening.wav" TargetMode="Externa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audio" Target="file:///tmp/home/.config/libreoffice/4/user/gallery/question.wav" TargetMode="External"/><Relationship Id="rId8" Type="http://schemas.microsoft.com/office/2007/relationships/media" Target="file:///tmp/home/.config/libreoffice/4/user/gallery/question.wav" TargetMode="Externa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dailydoub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14.xml"/><Relationship Id="rId5" Type="http://schemas.openxmlformats.org/officeDocument/2006/relationships/slide" Target=""/><Relationship Id="rId6" Type="http://schemas.openxmlformats.org/officeDocument/2006/relationships/slide" Target="slide25.xml"/><Relationship Id="rId7" Type="http://schemas.openxmlformats.org/officeDocument/2006/relationships/slide" Target=""/><Relationship Id="rId8" Type="http://schemas.openxmlformats.org/officeDocument/2006/relationships/slide" Target="slide35.xm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56.xml"/><Relationship Id="rId12" Type="http://schemas.openxmlformats.org/officeDocument/2006/relationships/slide" Target=""/><Relationship Id="rId13" Type="http://schemas.openxmlformats.org/officeDocument/2006/relationships/slide" Target="slide6.xml"/><Relationship Id="rId14" Type="http://schemas.openxmlformats.org/officeDocument/2006/relationships/slide" Target=""/><Relationship Id="rId15" Type="http://schemas.openxmlformats.org/officeDocument/2006/relationships/slide" Target="slide16.xml"/><Relationship Id="rId16" Type="http://schemas.openxmlformats.org/officeDocument/2006/relationships/slide" Target=""/><Relationship Id="rId17" Type="http://schemas.openxmlformats.org/officeDocument/2006/relationships/slide" Target="slide27.xml"/><Relationship Id="rId18" Type="http://schemas.openxmlformats.org/officeDocument/2006/relationships/slide" Target=""/><Relationship Id="rId19" Type="http://schemas.openxmlformats.org/officeDocument/2006/relationships/slide" Target="slide37.xml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slide58.xml"/><Relationship Id="rId23" Type="http://schemas.openxmlformats.org/officeDocument/2006/relationships/slide" Target=""/><Relationship Id="rId24" Type="http://schemas.openxmlformats.org/officeDocument/2006/relationships/slide" Target="slide8.xml"/><Relationship Id="rId25" Type="http://schemas.openxmlformats.org/officeDocument/2006/relationships/slide" Target=""/><Relationship Id="rId26" Type="http://schemas.openxmlformats.org/officeDocument/2006/relationships/slide" Target="slide18.xml"/><Relationship Id="rId27" Type="http://schemas.openxmlformats.org/officeDocument/2006/relationships/slide" Target=""/><Relationship Id="rId28" Type="http://schemas.openxmlformats.org/officeDocument/2006/relationships/slide" Target="slide29.xml"/><Relationship Id="rId29" Type="http://schemas.openxmlformats.org/officeDocument/2006/relationships/slide" Target=""/><Relationship Id="rId30" Type="http://schemas.openxmlformats.org/officeDocument/2006/relationships/slide" Target="slide39.xml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slide60.xml"/><Relationship Id="rId34" Type="http://schemas.openxmlformats.org/officeDocument/2006/relationships/slide" Target=""/><Relationship Id="rId35" Type="http://schemas.openxmlformats.org/officeDocument/2006/relationships/slide" Target="slide10.xml"/><Relationship Id="rId36" Type="http://schemas.openxmlformats.org/officeDocument/2006/relationships/slide" Target=""/><Relationship Id="rId37" Type="http://schemas.openxmlformats.org/officeDocument/2006/relationships/slide" Target="slide20.xml"/><Relationship Id="rId38" Type="http://schemas.openxmlformats.org/officeDocument/2006/relationships/slide" Target=""/><Relationship Id="rId39" Type="http://schemas.openxmlformats.org/officeDocument/2006/relationships/slide" Target="slide31.xml"/><Relationship Id="rId40" Type="http://schemas.openxmlformats.org/officeDocument/2006/relationships/slide" Target=""/><Relationship Id="rId41" Type="http://schemas.openxmlformats.org/officeDocument/2006/relationships/slide" Target=""/><Relationship Id="rId42" Type="http://schemas.openxmlformats.org/officeDocument/2006/relationships/slide" Target="slide52.xml"/><Relationship Id="rId43" Type="http://schemas.openxmlformats.org/officeDocument/2006/relationships/slide" Target=""/><Relationship Id="rId44" Type="http://schemas.openxmlformats.org/officeDocument/2006/relationships/slide" Target="slide62.xml"/><Relationship Id="rId45" Type="http://schemas.openxmlformats.org/officeDocument/2006/relationships/slide" Target=""/><Relationship Id="rId46" Type="http://schemas.openxmlformats.org/officeDocument/2006/relationships/slide" Target="slide12.xml"/><Relationship Id="rId47" Type="http://schemas.openxmlformats.org/officeDocument/2006/relationships/slide" Target=""/><Relationship Id="rId48" Type="http://schemas.openxmlformats.org/officeDocument/2006/relationships/slide" Target=""/><Relationship Id="rId49" Type="http://schemas.openxmlformats.org/officeDocument/2006/relationships/slide" Target="slide33.xml"/><Relationship Id="rId50" Type="http://schemas.openxmlformats.org/officeDocument/2006/relationships/slide" Target=""/><Relationship Id="rId51" Type="http://schemas.openxmlformats.org/officeDocument/2006/relationships/slide" Target=""/><Relationship Id="rId52" Type="http://schemas.openxmlformats.org/officeDocument/2006/relationships/slide" Target="slide54.xml"/><Relationship Id="rId53" Type="http://schemas.openxmlformats.org/officeDocument/2006/relationships/slide" Target=""/><Relationship Id="rId54" Type="http://schemas.openxmlformats.org/officeDocument/2006/relationships/slide" Target="slide64.xml"/><Relationship Id="rId55" Type="http://schemas.openxmlformats.org/officeDocument/2006/relationships/slide" Target=""/><Relationship Id="rId56" Type="http://schemas.openxmlformats.org/officeDocument/2006/relationships/slide" Target=""/><Relationship Id="rId57" Type="http://schemas.openxmlformats.org/officeDocument/2006/relationships/slide" Target=""/><Relationship Id="rId58" Type="http://schemas.openxmlformats.org/officeDocument/2006/relationships/slide" Target=""/><Relationship Id="rId5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dailydoub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finaljeo.wav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2928960" cy="6172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886200" y="380880"/>
            <a:ext cx="417024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lcome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638680" y="2459160"/>
            <a:ext cx="74772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o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86200" y="4035600"/>
            <a:ext cx="4043520" cy="22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Jeopardy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25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6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295280"/>
            <a:ext cx="8381880" cy="46659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n Income Statement can be set up by using the account balances found on thi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2360" y="1916280"/>
            <a:ext cx="8381880" cy="2399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Trial Bal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187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7047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143000"/>
            <a:ext cx="8534520" cy="37515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type of documents where transaction information is obtained from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628640"/>
            <a:ext cx="8381880" cy="2399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ar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ource document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198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286000"/>
            <a:ext cx="8381880" cy="28371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Normal Balance (Side) of Expense Account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4000" y="1268280"/>
            <a:ext cx="8381880" cy="331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Debit Balances or (Left Side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209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905120"/>
            <a:ext cx="8381880" cy="28371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Balance Sheet summarizes information about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2360" y="1413000"/>
            <a:ext cx="8381880" cy="331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ar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ssets, Liabilities and Owner’s Equit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220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2133720"/>
            <a:ext cx="8381880" cy="19227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Revenues – Expenses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2360" y="1413000"/>
            <a:ext cx="8381880" cy="3789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Net Income 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(Net Loss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231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935760" y="2003400"/>
            <a:ext cx="1827360" cy="4397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429000" y="2136600"/>
            <a:ext cx="2249640" cy="4035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7200" y="2009880"/>
            <a:ext cx="2004840" cy="4162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4343400"/>
            <a:ext cx="2286000" cy="25146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50000">
                <a:srgbClr val="3366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560" y="4876920"/>
            <a:ext cx="1868760" cy="1846080"/>
          </a:xfrm>
          <a:prstGeom prst="flowChartAlternateProcess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4343400"/>
            <a:ext cx="2286000" cy="25146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50000">
                <a:srgbClr val="3366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18000" y="4876920"/>
            <a:ext cx="1868400" cy="1846080"/>
          </a:xfrm>
          <a:prstGeom prst="flowChartAlternateProcess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4346640"/>
            <a:ext cx="2286000" cy="25146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50000">
                <a:srgbClr val="3366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1520" y="4879800"/>
            <a:ext cx="1871640" cy="1846440"/>
          </a:xfrm>
          <a:prstGeom prst="flowChartAlternateProcess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4" action="ppaction://hlinksldjump"/>
          </p:cNvPr>
          <p:cNvSpPr/>
          <p:nvPr/>
        </p:nvSpPr>
        <p:spPr>
          <a:xfrm>
            <a:off x="0" y="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5" action="ppaction://hlinksldjump"/>
          </p:cNvPr>
          <p:cNvSpPr/>
          <p:nvPr/>
        </p:nvSpPr>
        <p:spPr>
          <a:xfrm>
            <a:off x="36360" y="3049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6" action="ppaction://hlinksldjump"/>
          </p:cNvPr>
          <p:cNvSpPr/>
          <p:nvPr/>
        </p:nvSpPr>
        <p:spPr>
          <a:xfrm>
            <a:off x="1295280" y="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7" action="ppaction://hlinksldjump"/>
          </p:cNvPr>
          <p:cNvSpPr/>
          <p:nvPr/>
        </p:nvSpPr>
        <p:spPr>
          <a:xfrm>
            <a:off x="1371600" y="304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37080" y="5084640"/>
            <a:ext cx="1869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am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5084640"/>
            <a:ext cx="17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am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48360" y="5084640"/>
            <a:ext cx="173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am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8" action="ppaction://hlinksldjump"/>
          </p:cNvPr>
          <p:cNvSpPr/>
          <p:nvPr/>
        </p:nvSpPr>
        <p:spPr>
          <a:xfrm>
            <a:off x="2666880" y="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9" action="ppaction://hlinksldjump"/>
          </p:cNvPr>
          <p:cNvSpPr/>
          <p:nvPr/>
        </p:nvSpPr>
        <p:spPr>
          <a:xfrm>
            <a:off x="2666880" y="1522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l Jeopar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133720" y="0"/>
            <a:ext cx="4787640" cy="628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ai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u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ailydou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3084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914400"/>
            <a:ext cx="8382240" cy="46659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Earning a Net Income or a Profit would result in a ______to Owner’s Equity of the compan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2360" y="1413000"/>
            <a:ext cx="8381880" cy="3789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 Credi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(an Increase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245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1523880"/>
            <a:ext cx="8381880" cy="19227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Represents the net worth of a compan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253" name=""/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1676520"/>
            <a:ext cx="8381880" cy="2399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wner’s Equ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261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2360" y="1628640"/>
            <a:ext cx="8381880" cy="28371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Capital Account generally has this type of balan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1752480"/>
            <a:ext cx="8381880" cy="2399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 Credit Balan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272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2280" y="1447920"/>
            <a:ext cx="8382240" cy="46659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If we spent more money than we had in the Bank, then our Bank Account would have this balan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1341360"/>
            <a:ext cx="8381880" cy="3789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 Credit Balan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(An overdraft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283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838080"/>
            <a:ext cx="8381880" cy="5580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BC Company owes XYZ Company $1300 and the XYZ account is credited for $1200.  This is the new XYZ account balan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685800"/>
            <a:ext cx="7162920" cy="60958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642960"/>
            <a:ext cx="1193760" cy="10238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21440" y="6541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27680" y="6541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6541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40160" y="6541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46040" y="654120"/>
            <a:ext cx="119412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83808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urnals &amp; Led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685800"/>
            <a:ext cx="1298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/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838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838080"/>
            <a:ext cx="15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8380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69228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 the world TERM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15228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46040" y="166680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129528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4016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251460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7" action="ppaction://hlinksldjump"/>
          </p:cNvPr>
          <p:cNvSpPr/>
          <p:nvPr/>
        </p:nvSpPr>
        <p:spPr>
          <a:xfrm>
            <a:off x="3733920" y="19191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2768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 action="ppaction://hlinksldjump"/>
          </p:cNvPr>
          <p:cNvSpPr/>
          <p:nvPr/>
        </p:nvSpPr>
        <p:spPr>
          <a:xfrm>
            <a:off x="4876920" y="19191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144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0" action="ppaction://hlinksldjump"/>
          </p:cNvPr>
          <p:cNvSpPr/>
          <p:nvPr/>
        </p:nvSpPr>
        <p:spPr>
          <a:xfrm>
            <a:off x="609588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2" action="ppaction://hlinksldjump"/>
          </p:cNvPr>
          <p:cNvSpPr/>
          <p:nvPr/>
        </p:nvSpPr>
        <p:spPr>
          <a:xfrm>
            <a:off x="152280" y="29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46040" y="2689200"/>
            <a:ext cx="119412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4" action="ppaction://hlinksldjump"/>
          </p:cNvPr>
          <p:cNvSpPr/>
          <p:nvPr/>
        </p:nvSpPr>
        <p:spPr>
          <a:xfrm>
            <a:off x="1295280" y="29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4016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6" action="ppaction://hlinksldjump"/>
          </p:cNvPr>
          <p:cNvSpPr/>
          <p:nvPr/>
        </p:nvSpPr>
        <p:spPr>
          <a:xfrm>
            <a:off x="2514600" y="29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18" action="ppaction://hlinksldjump"/>
          </p:cNvPr>
          <p:cNvSpPr/>
          <p:nvPr/>
        </p:nvSpPr>
        <p:spPr>
          <a:xfrm>
            <a:off x="3733920" y="2909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2768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20" action="ppaction://hlinksldjump"/>
          </p:cNvPr>
          <p:cNvSpPr/>
          <p:nvPr/>
        </p:nvSpPr>
        <p:spPr>
          <a:xfrm>
            <a:off x="4876920" y="2909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2144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21" action="ppaction://hlinksldjump"/>
          </p:cNvPr>
          <p:cNvSpPr/>
          <p:nvPr/>
        </p:nvSpPr>
        <p:spPr>
          <a:xfrm>
            <a:off x="6095880" y="29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23" action="ppaction://hlinksldjump"/>
          </p:cNvPr>
          <p:cNvSpPr/>
          <p:nvPr/>
        </p:nvSpPr>
        <p:spPr>
          <a:xfrm>
            <a:off x="15228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46040" y="371304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25" action="ppaction://hlinksldjump"/>
          </p:cNvPr>
          <p:cNvSpPr/>
          <p:nvPr/>
        </p:nvSpPr>
        <p:spPr>
          <a:xfrm>
            <a:off x="129528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4016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27" action="ppaction://hlinksldjump"/>
          </p:cNvPr>
          <p:cNvSpPr/>
          <p:nvPr/>
        </p:nvSpPr>
        <p:spPr>
          <a:xfrm>
            <a:off x="251460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29" action="ppaction://hlinksldjump"/>
          </p:cNvPr>
          <p:cNvSpPr/>
          <p:nvPr/>
        </p:nvSpPr>
        <p:spPr>
          <a:xfrm>
            <a:off x="3733920" y="39765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2768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1" action="ppaction://hlinksldjump"/>
          </p:cNvPr>
          <p:cNvSpPr/>
          <p:nvPr/>
        </p:nvSpPr>
        <p:spPr>
          <a:xfrm>
            <a:off x="4876920" y="39765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2144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32" action="ppaction://hlinksldjump"/>
          </p:cNvPr>
          <p:cNvSpPr/>
          <p:nvPr/>
        </p:nvSpPr>
        <p:spPr>
          <a:xfrm>
            <a:off x="609588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3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34" action="ppaction://hlinksldjump"/>
          </p:cNvPr>
          <p:cNvSpPr/>
          <p:nvPr/>
        </p:nvSpPr>
        <p:spPr>
          <a:xfrm>
            <a:off x="152280" y="4967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5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46040" y="4735440"/>
            <a:ext cx="119412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36" action="ppaction://hlinksldjump"/>
          </p:cNvPr>
          <p:cNvSpPr/>
          <p:nvPr/>
        </p:nvSpPr>
        <p:spPr>
          <a:xfrm>
            <a:off x="1295280" y="4967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7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4016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38" action="ppaction://hlinksldjump"/>
          </p:cNvPr>
          <p:cNvSpPr/>
          <p:nvPr/>
        </p:nvSpPr>
        <p:spPr>
          <a:xfrm>
            <a:off x="2514600" y="4967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9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3392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40" action="ppaction://hlinksldjump"/>
          </p:cNvPr>
          <p:cNvSpPr/>
          <p:nvPr/>
        </p:nvSpPr>
        <p:spPr>
          <a:xfrm>
            <a:off x="3733920" y="49672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2768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41" action="ppaction://hlinksldjump"/>
          </p:cNvPr>
          <p:cNvSpPr/>
          <p:nvPr/>
        </p:nvSpPr>
        <p:spPr>
          <a:xfrm>
            <a:off x="4876920" y="49672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2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2144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43" action="ppaction://hlinksldjump"/>
          </p:cNvPr>
          <p:cNvSpPr/>
          <p:nvPr/>
        </p:nvSpPr>
        <p:spPr>
          <a:xfrm>
            <a:off x="6095880" y="4967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4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45" action="ppaction://hlinksldjump"/>
          </p:cNvPr>
          <p:cNvSpPr/>
          <p:nvPr/>
        </p:nvSpPr>
        <p:spPr>
          <a:xfrm>
            <a:off x="152280" y="6033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6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46040" y="575928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7" action="ppaction://hlinksldjump"/>
          </p:cNvPr>
          <p:cNvSpPr/>
          <p:nvPr/>
        </p:nvSpPr>
        <p:spPr>
          <a:xfrm>
            <a:off x="1295280" y="6033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4016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48" action="ppaction://hlinksldjump"/>
          </p:cNvPr>
          <p:cNvSpPr/>
          <p:nvPr/>
        </p:nvSpPr>
        <p:spPr>
          <a:xfrm>
            <a:off x="2514600" y="6033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9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50" action="ppaction://hlinksldjump"/>
          </p:cNvPr>
          <p:cNvSpPr/>
          <p:nvPr/>
        </p:nvSpPr>
        <p:spPr>
          <a:xfrm>
            <a:off x="3733920" y="60339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2768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51" action="ppaction://hlinksldjump"/>
          </p:cNvPr>
          <p:cNvSpPr/>
          <p:nvPr/>
        </p:nvSpPr>
        <p:spPr>
          <a:xfrm>
            <a:off x="4876920" y="60339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2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2144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53" action="ppaction://hlinksldjump"/>
          </p:cNvPr>
          <p:cNvSpPr/>
          <p:nvPr/>
        </p:nvSpPr>
        <p:spPr>
          <a:xfrm>
            <a:off x="6095880" y="6033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4" action="ppaction://hlinksldjump"/>
              </a:rPr>
              <a:t>$500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55" action="ppaction://hlinksldjump"/>
          </p:cNvPr>
          <p:cNvSpPr/>
          <p:nvPr/>
        </p:nvSpPr>
        <p:spPr>
          <a:xfrm>
            <a:off x="7924680" y="175248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56" action="ppaction://hlinksldjump"/>
          </p:cNvPr>
          <p:cNvSpPr/>
          <p:nvPr/>
        </p:nvSpPr>
        <p:spPr>
          <a:xfrm>
            <a:off x="8001000" y="19051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l Jeopar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924680" y="2819520"/>
            <a:ext cx="1219320" cy="914400"/>
            <a:chOff x="7924680" y="2819520"/>
            <a:chExt cx="1219320" cy="914400"/>
          </a:xfrm>
        </p:grpSpPr>
        <p:sp>
          <p:nvSpPr>
            <p:cNvPr id="143" name="">
              <a:hlinkClick r:id="rId57" action="ppaction://hlinksldjump"/>
            </p:cNvPr>
            <p:cNvSpPr/>
            <p:nvPr/>
          </p:nvSpPr>
          <p:spPr>
            <a:xfrm>
              <a:off x="7924680" y="28195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>
              <a:hlinkClick r:id="rId58" action="ppaction://hlinksldjump"/>
            </p:cNvPr>
            <p:cNvSpPr/>
            <p:nvPr/>
          </p:nvSpPr>
          <p:spPr>
            <a:xfrm>
              <a:off x="7967520" y="31240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4000" y="1700280"/>
            <a:ext cx="8381880" cy="2399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$25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294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9280" y="1197000"/>
            <a:ext cx="8964720" cy="37515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purpose of the Trial Balance is to check that these accounts are in balan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2360" y="1268280"/>
            <a:ext cx="8381880" cy="2399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ledger account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305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1143000"/>
            <a:ext cx="8382240" cy="5212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t the beginning of the year, the owner’s Capital was $36,000.  At the end of the year, Capital was $43,000.  If Drawings were $2,000, Net Income must have been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52360" y="1557360"/>
            <a:ext cx="8381880" cy="2399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$9,0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316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2360" y="765000"/>
            <a:ext cx="8381880" cy="10065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9640" y="11970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1447920"/>
            <a:ext cx="8381880" cy="28371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fundamental Accounting Equation is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4920" y="822240"/>
            <a:ext cx="8381880" cy="60948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ssets = Liabilities + Owner’s Equ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 – L = O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329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" y="762120"/>
            <a:ext cx="8381880" cy="58546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 transaction that is posted as a DR of $365 and a CR of $356 will cause a Trial Balance Error of $9.  This is an example of a _______ erro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2360" y="1557360"/>
            <a:ext cx="8381880" cy="2399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ransposition Err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340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52360" y="907920"/>
            <a:ext cx="8381880" cy="5580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If the Capital balance of $10,000 is posted twice, the Trial Balance will be out of balance by this amoun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1557360"/>
            <a:ext cx="8381880" cy="37515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Each of these have their own specially designed pages in the Ledg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2360" y="1557360"/>
            <a:ext cx="8381880" cy="2399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$10,0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351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28600" y="1523880"/>
            <a:ext cx="8915400" cy="331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Income Statement equation is.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1219320"/>
            <a:ext cx="8381880" cy="60948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Revenues – Expenses = Net Income o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(Net Loss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362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2133720"/>
            <a:ext cx="8381880" cy="28371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Equity equation on the Balance Sheet is..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52280" y="380880"/>
            <a:ext cx="8610840" cy="5456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Opening Capital Bal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+ Net Income (or – Net Los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rawing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= Closing Capital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al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373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1371600"/>
            <a:ext cx="8381880" cy="19227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effect of issuing a Sales Invoi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2360" y="1413000"/>
            <a:ext cx="8381880" cy="4704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Debit Accounts Receivab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redit Reven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384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52360" y="1125360"/>
            <a:ext cx="8381880" cy="37515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effect of making a payment on account (to a business we owe money to)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4920" y="1143000"/>
            <a:ext cx="8381880" cy="4704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Debit Accounts Payab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redit Ca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395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2133720" y="0"/>
            <a:ext cx="4787640" cy="628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ai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u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ailydou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3084" fill="hold"/>
                                        <p:tgtEl>
                                          <p:spTgt spid="3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2360" y="1989000"/>
            <a:ext cx="8381880" cy="2399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are…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ccou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924680" y="4800600"/>
            <a:ext cx="1219320" cy="914400"/>
            <a:chOff x="7924680" y="4800600"/>
            <a:chExt cx="1219320" cy="914400"/>
          </a:xfrm>
        </p:grpSpPr>
        <p:sp>
          <p:nvSpPr>
            <p:cNvPr id="154" name="">
              <a:hlinkClick r:id="rId3" action="ppaction://hlinksldjump"/>
            </p:cNvPr>
            <p:cNvSpPr/>
            <p:nvPr/>
          </p:nvSpPr>
          <p:spPr>
            <a:xfrm>
              <a:off x="7924680" y="480060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>
              <a:hlinkClick r:id="rId4" action="ppaction://hlinksldjump"/>
            </p:cNvPr>
            <p:cNvSpPr/>
            <p:nvPr/>
          </p:nvSpPr>
          <p:spPr>
            <a:xfrm>
              <a:off x="7967520" y="510516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" y="1295280"/>
            <a:ext cx="8381880" cy="46659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effect when we receive a receipt on account (from a business that owes us money)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4920" y="990720"/>
            <a:ext cx="8381880" cy="4704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redit Accounts Receivab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Debit Ban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409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2360" y="1197000"/>
            <a:ext cx="8381880" cy="28371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effect when we make a purchase of supplies on accoun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" y="1219320"/>
            <a:ext cx="8381880" cy="4704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Debit Suppl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redit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Times New Roman"/>
              </a:rPr>
              <a:t> Accounts Payab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420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" y="1523880"/>
            <a:ext cx="8381880" cy="37515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effect on Owner’s Equity when the company has a Net Incom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2360" y="1484280"/>
            <a:ext cx="8381880" cy="3789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n increase 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 cred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431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914400"/>
            <a:ext cx="8382240" cy="5580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alaries, Advertising, Maintenance and Utilities, examples of items used to help generate revenue in a business are called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2360" y="1484280"/>
            <a:ext cx="8381880" cy="2399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ar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Expen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442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4000" y="1484280"/>
            <a:ext cx="8381880" cy="46659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money, or promise of money received from the sale of goods or services is called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24000" y="1341360"/>
            <a:ext cx="8381880" cy="2399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Reven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453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1773360"/>
            <a:ext cx="8381880" cy="19227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ere all transactions are recorded firs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0880" y="914400"/>
            <a:ext cx="8382240" cy="5031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ich GAAP principle is being followed when expenses are recorded in the same time period as the revenue they helped to ear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600200"/>
            <a:ext cx="8381880" cy="331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Matching Princip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464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28600" y="1828800"/>
            <a:ext cx="8434440" cy="37515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Represents the period of time required to complete the accounting cycl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2360" y="1413000"/>
            <a:ext cx="8381880" cy="2399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 Fiscal Perio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475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04920" y="838080"/>
            <a:ext cx="8381880" cy="74473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Dr/Cr Theory states that each transaction must have equal ____ and _____ amounts posted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52360" y="1413000"/>
            <a:ext cx="8381880" cy="2399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ar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Debit and Cred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486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2209680" y="223920"/>
            <a:ext cx="489456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inal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0" name="">
            <a:hlinkClick r:id="rId6" action="ppaction://hlinksldjump"/>
          </p:cNvPr>
          <p:cNvSpPr/>
          <p:nvPr/>
        </p:nvSpPr>
        <p:spPr>
          <a:xfrm>
            <a:off x="3352680" y="594360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>
            <a:hlinkClick r:id="rId7" action="ppaction://hlinksldjump"/>
          </p:cNvPr>
          <p:cNvSpPr/>
          <p:nvPr/>
        </p:nvSpPr>
        <p:spPr>
          <a:xfrm>
            <a:off x="339408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42512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ategory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Chart of Accou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>
            <a:hlinkClick r:id="rId8" action="ppaction://hlinksldjump"/>
          </p:cNvPr>
          <p:cNvSpPr/>
          <p:nvPr/>
        </p:nvSpPr>
        <p:spPr>
          <a:xfrm>
            <a:off x="4952880" y="594684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994280" y="60199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l Jeopardy Ques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990720"/>
            <a:ext cx="9144000" cy="367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number 405 indicates which type of accoun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ood luck, everyo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4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24000" y="1484280"/>
            <a:ext cx="8381880" cy="5180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Revenue accou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>
            <a:hlinkClick r:id="rId1" action="ppaction://hlinksldjump"/>
          </p:cNvPr>
          <p:cNvSpPr/>
          <p:nvPr/>
        </p:nvSpPr>
        <p:spPr>
          <a:xfrm>
            <a:off x="3886200" y="594360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>
            <a:hlinkClick r:id="rId2" action="ppaction://hlinksldjump"/>
          </p:cNvPr>
          <p:cNvSpPr/>
          <p:nvPr/>
        </p:nvSpPr>
        <p:spPr>
          <a:xfrm>
            <a:off x="392760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1773360"/>
            <a:ext cx="8381880" cy="2399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General Journ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800100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165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2360" y="1413000"/>
            <a:ext cx="8381880" cy="37515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se type of accounts would be listed first on a Trial Balan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1773360"/>
            <a:ext cx="8382240" cy="19227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are…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sset Accou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176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21:32Z</dcterms:created>
  <dc:creator>089744</dc:creator>
  <dc:description/>
  <dc:language>en-US</dc:language>
  <cp:lastModifiedBy>Gary</cp:lastModifiedBy>
  <dcterms:modified xsi:type="dcterms:W3CDTF">2009-01-19T00:55:37Z</dcterms:modified>
  <cp:revision>22</cp:revision>
  <dc:subject/>
  <dc:title>Slide 1</dc:title>
</cp:coreProperties>
</file>